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CAF-F3ED-4CD2-B061-741CFBF5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000-731C-41C6-BAD9-FD1C9DA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ABA-CE71-4919-8839-AF806D97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A0F-D6C2-4848-9B65-BFC94F9A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8AFD-D159-47EC-A82A-8ADE815E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49FA-57E8-4F32-8A7D-FDC7714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DCEE-9661-438A-A792-D1A2F5E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5C76-6532-4A22-A419-603366C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E84F-E3E5-4EA7-87E8-71B7B6C5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DE45-7DBB-42C0-95AF-E4BE1DF2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EAD2-CBF0-44AE-A4B0-9826C81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131-65EE-4F26-98F9-2605C0B7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6F0-AB26-4F46-8AE9-0FDE7DB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5969-D004-4875-9AC6-F715B5E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4259-BE42-4928-A892-A68CE85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8B10-E4E2-4E58-9816-38BAD6CC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368B-262E-465C-AE4E-69312A8E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D1B6-4295-4DBC-86AE-EFCB00DE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69A7-862A-4F83-A1D5-18F2F9F2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C2C9-F080-4423-B071-0ED8E72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0EDE-2357-4DD9-9C2D-8539D874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ACF3-5E9E-4084-A912-012A9D3D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02F-95FF-49E9-AA01-89C7E1B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7769-E199-4979-94C5-C3C6405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DDFC-A41B-46D0-8721-95457F5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C403-B5A8-42BF-8B14-FC9ACCF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A74F-9D2C-41B3-A7D5-033786B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0BE8-1C04-46DD-9B92-60A4CCF1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101C-2569-4756-9870-ED39F68C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0B04-39A5-4DB5-9A89-F65B9427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532-8EB1-4075-9DE0-E8AF162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C46-EBDC-409E-A4C0-5A4E9B6F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6E5-537D-404A-9281-4414C583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4C8-9BF6-45F3-B701-FE7A08B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8DD-0FB6-44ED-BB06-D85FC40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B38-C5C3-48F5-8DCA-F1448125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98C-F374-4785-B595-370088D46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957-0F0A-44A6-8C7E-979A0F7CA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12B-27AE-4334-8E34-B2B4335F6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rtal-slovo.ru/philology/37393.ph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990000"/>
                </a:solidFill>
                <a:latin typeface="Amethyst"/>
              </a:rPr>
              <a:t>Презентация по русскому языку по теме: </a:t>
            </a:r>
            <a:br>
              <a:rPr sz="2900"/>
            </a:br>
            <a:r>
              <a:rPr b="1" lang="ru-RU" sz="3200" spc="-1" strike="noStrike">
                <a:solidFill>
                  <a:srgbClr val="990000"/>
                </a:solidFill>
                <a:latin typeface="Amethyst"/>
              </a:rPr>
              <a:t>«Сложносочиненные предложения».</a:t>
            </a: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ыполнила ученица 9 «Б»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Школы №2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унегова Мар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6a6a6"/>
                </a:solidFill>
                <a:latin typeface="Calibri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жносочиненным предложением (ССП) называют такой тип СП, в котором части соединены при помощи сочинительных союз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соединении частей с помощью сочинительных союзов части остаются относительно нзависимы друг от друга, между ними устанавливаются равноправные отношения. Более конкретные смысловые отношения выявляются из значения союзов, стоящих между част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В работе использованы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.Г.Бархударов Русский язык 9 класс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f5f5f"/>
                </a:solidFill>
                <a:uFillTx/>
                <a:latin typeface="Constantia"/>
                <a:hlinkClick r:id="rId1"/>
              </a:rPr>
              <a:t>http://www.portal-slovo.ru/philology/37393.ph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676440" y="-268200"/>
            <a:ext cx="8327880" cy="1798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39640" y="1916280"/>
            <a:ext cx="81360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Сложносочиненное 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это сложное предложение, в котором два и более простых предложений связаны сочинительными союзами и интонацией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стра получила письмо, оно было написано по - английс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бо над головой было очень светлое, а к горизонту оно густе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8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800"/>
                            </p:stCondLst>
                            <p:childTnLst>
                              <p:par>
                                <p:cTn id="7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новидности смысловых отношений между частями сложносочиненного предложения: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Organization Chart 6"/>
          <p:cNvGrpSpPr/>
          <p:nvPr/>
        </p:nvGrpSpPr>
        <p:grpSpPr>
          <a:xfrm>
            <a:off x="285840" y="1428840"/>
            <a:ext cx="8460720" cy="4599000"/>
            <a:chOff x="285840" y="1428840"/>
            <a:chExt cx="8460720" cy="459900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36440" y="2246760"/>
              <a:ext cx="920520" cy="29620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2"/>
            </p:cNvCxnSpPr>
            <p:nvPr/>
          </p:nvCxnSpPr>
          <p:spPr>
            <a:xfrm flipV="1">
              <a:off x="4515840" y="3267720"/>
              <a:ext cx="396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2"/>
            </p:cNvCxnSpPr>
            <p:nvPr/>
          </p:nvCxnSpPr>
          <p:spPr>
            <a:xfrm flipH="1" flipV="1" rot="5400000">
              <a:off x="2575440" y="2247120"/>
              <a:ext cx="920520" cy="29620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247200" y="14288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чинит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ю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285840" y="41882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дноврем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следова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чи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247200" y="41882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ред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заимоисклю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08560" y="41882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пост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тивопост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50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5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50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5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50"/>
                            </p:stCondLst>
                            <p:childTnLst>
                              <p:par>
                                <p:cTn id="11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50"/>
                            </p:stCondLst>
                            <p:childTnLst>
                              <p:par>
                                <p:cTn id="12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50"/>
                            </p:stCondLst>
                            <p:childTnLst>
                              <p:par>
                                <p:cTn id="13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соединительными союза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773360"/>
            <a:ext cx="3457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оединительные союз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а (=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и…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ак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284720" y="1773360"/>
            <a:ext cx="360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их сложносочиненных предложениях выраж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одновре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3995640" y="1773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79280" y="445608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углу за печкой трещал сверчок, да издали доносился своеобразный весенний голос домового сычика. (да(=и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 солнца мне не виден свет, ни для корней моих простоту нет. (ни…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5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5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95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95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95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95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95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95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разделительными союз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785600"/>
            <a:ext cx="324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Разделительные союз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…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ли (иль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ибо…либ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е то…не 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 ли…то 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3492360" y="162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643200" y="17859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их сложносочиненных предложениях выражаются 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чер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взаимо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31840" y="4024440"/>
            <a:ext cx="8912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 падал как будто туман, то вдруг припускал косой дождь. (то…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бо я все устрою по – прежнему, либо я его на дуэль вызову. (либо…либ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противительными союз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714320"/>
            <a:ext cx="28908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тивительные союз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е только… но 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а (=но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днак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706920" y="1628640"/>
            <a:ext cx="14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071960" y="17859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ложносочиненных предложениях одно явление сопоставляет с другим или противопоставляется друг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79280" y="4149720"/>
            <a:ext cx="87138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олько дети любят компьютерные игры, но и взрослые часто увлекаются ими. (не только…но 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сня над домом смолкла, зато над прудом соловей заводил свою. (за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8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98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8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98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48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98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48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98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48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делительные знаки препинания между частями сложносочиненного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57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асти сложносочиненного предложения разделяются запят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есь день в лесу был золотой, а вечером заря горела в полнеб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19191"/>
                                      </p:to>
                                    </p:animClr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19191"/>
                                      </p:to>
                                    </p:animClr>
                                    <p:set>
                                      <p:cBhvr>
                                        <p:cTn id="308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5092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жду частями сложносочиненного предложени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ногда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авитс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тир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перед союзом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, если в предложении содержится резкое противопоставление или указывается на быструю смену событ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т север, тучи нагоня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Дохнул, завыл – и вот са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Идет волшебница зим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4920" y="188640"/>
            <a:ext cx="820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сложносочиненном предложении                         запятая не стави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9c007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Если его части объединены общим второстепенным членом или общим придаточным предложени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Звезды уже начали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леднеть и небо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ерело, когда коляска подъехала к крыльцу домика на Васильевск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Если все его части являются вопросительными, побудительными, восклицательными предложения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Это кто такие и что им надобно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500"/>
                            </p:stCondLst>
                            <p:childTnLst>
                              <p:par>
                                <p:cTn id="43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8500"/>
                            </p:stCondLst>
                            <p:childTnLst>
                              <p:par>
                                <p:cTn id="45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3500"/>
                            </p:stCondLst>
                            <p:childTnLst>
                              <p:par>
                                <p:cTn id="45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5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1:52:25Z</dcterms:created>
  <dc:creator>Дашено</dc:creator>
  <dc:description/>
  <dc:language>en-US</dc:language>
  <cp:lastModifiedBy>студент</cp:lastModifiedBy>
  <dcterms:modified xsi:type="dcterms:W3CDTF">2011-04-12T10:53:07Z</dcterms:modified>
  <cp:revision>14</cp:revision>
  <dc:subject/>
  <dc:title>Сложносочиненные предложения</dc:title>
</cp:coreProperties>
</file>